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442FA-7E5E-4E7F-B545-412A2707F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16AC4-C6B4-4494-A22E-EE5653288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BA1F6-0E40-4D2B-8449-DBFDBDB40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D20E4-CCE6-4F1F-A11B-4D5979A74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9263C-8F6B-40A3-81C1-93A8CEC45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10E7F-2B55-43E6-90EF-5F14D1F7B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70CC2-7109-46F4-A703-3D5BC6239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D3DE7-C889-41ED-AC1F-D1536FED1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76909-F256-4A02-97CA-384155AD3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84532-5972-408B-90AF-738EC32ED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A508D-47B2-4C58-A9E3-9FCC6F1B4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9E8BE-C814-4406-9167-A344AA50A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cc"/>
            </a:gs>
            <a:gs pos="100000">
              <a:srgbClr val="00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DE531-65F3-4C85-8944-84E79DFF43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cc"/>
            </a:gs>
            <a:gs pos="100000">
              <a:srgbClr val="00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380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swer My Questions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2362320"/>
            <a:ext cx="51818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do we call a young insec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What do bush flies ea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257800" y="24382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ym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267080" y="3276720"/>
            <a:ext cx="19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at and fru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ennifer.doeur</cp:lastModifiedBy>
  <dcterms:modified xsi:type="dcterms:W3CDTF">2009-06-16T00:50:48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